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9173C-4FD6-431C-9869-6A03116ABA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ine the regulation of protein synthesis in bacteria. (Reference should be made to the lac operon in Escherichia co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ine the regulation of protein synthesis in bacteria. (Reference should be made to the lac operon in Escherichia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 Ope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 Operon is an example of an operon that is able to regulate itself depending on the environmental conditions it is subjected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des for 3 genes: Beta-galactosidase, lactose permease and Thiogalactosidase transacetylase. These genes are involved in lactose meta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actose is absent, the system is turned off; if lactose is present, the operon is switched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 Ope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 Operon is an example of an operon that is able to regulate itself depending on the environmental conditions it is subject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des for 3 genes: Beta-galactosidase, lactose permease and Thiogalactosidase transacetylase. These genes are involved in lactose metabo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actose is absent, the system is turned off; if lactose is present, the operon is switch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D4033-CD56-4DED-87D5-CF9E534C6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78B00-CFAA-48B0-B4BD-B1A46732A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BD5F0-1683-4E20-B2F6-5AC9417E0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90A1A-B8C4-4AA3-9349-B04FCCB02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E02F6-C983-4F84-9925-E8F023E26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C1A26-D112-40C6-8C27-2DF4CCD2C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E2881-DE55-4F01-8000-18FB5A903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95CB7-102A-4941-A50A-E3191B9DD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C10CF-721F-45EB-86B7-8665F7084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CE840-B2BF-4EB3-B961-AAFC47652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6E2A4-7D6F-4746-8885-A67F2F123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C6FAD-BE4C-42DD-A39F-A71612E23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654B-EFA1-4DE4-95E3-B0DEED144F9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imes New Roman"/>
              </a:rPr>
              <a:t>Objective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line the regulation of protein synthesis in bacteria. (Reference should be made to the </a:t>
            </a:r>
            <a:r>
              <a:rPr b="0" i="1" lang="en-GB" sz="3200" spc="-1" strike="noStrike">
                <a:solidFill>
                  <a:srgbClr val="000000"/>
                </a:solidFill>
                <a:latin typeface="Arial"/>
              </a:rPr>
              <a:t>lac </a:t>
            </a:r>
            <a:r>
              <a:rPr b="0" lang="en-GB" sz="3200" spc="-1" strike="noStrike">
                <a:solidFill>
                  <a:srgbClr val="000000"/>
                </a:solidFill>
                <a:latin typeface="Arial"/>
              </a:rPr>
              <a:t>operon in </a:t>
            </a:r>
            <a:r>
              <a:rPr b="0" i="1" lang="en-GB" sz="3200" spc="-1" strike="noStrike">
                <a:solidFill>
                  <a:srgbClr val="000000"/>
                </a:solidFill>
                <a:latin typeface="Arial"/>
              </a:rPr>
              <a:t>Escherichia coli</a:t>
            </a:r>
            <a:r>
              <a:rPr b="0" lang="en-GB" sz="3200" spc="-1" strike="noStrike">
                <a:solidFill>
                  <a:srgbClr val="000000"/>
                </a:solidFill>
                <a:latin typeface="Arial"/>
              </a:rPr>
              <a: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Times New Roman"/>
              </a:rPr>
              <a:t>Lac Opero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0020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ac Operon is an example of an operon that is able to regulate itself depending on the environmental conditions it is subjected to.</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codes for 3 genes: Beta-galactosidase, lactose permease and Thiogalactosidase transacetylase. These genes are involved in lactose metabolism.</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lactose is absent, the system is turned off; if lactose is present, the operon is switched on.</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bacteria’s favoured source of food is glucose and if that is present the operon does not need to be switched on, as there is no need to metabolise lactose.</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Object 2"/>
          <p:cNvGraphicFramePr/>
          <p:nvPr/>
        </p:nvGraphicFramePr>
        <p:xfrm>
          <a:off x="457200" y="504720"/>
          <a:ext cx="8077320" cy="5740560"/>
        </p:xfrm>
        <a:graphic>
          <a:graphicData uri="http://schemas.openxmlformats.org/presentationml/2006/ole">
            <p:oleObj r:id="rId1" spid="">
              <p:embed/>
              <p:pic>
                <p:nvPicPr>
                  <p:cNvPr id="55" name="Object 2" descr=""/>
                  <p:cNvPicPr/>
                  <p:nvPr/>
                </p:nvPicPr>
                <p:blipFill>
                  <a:blip r:embed="rId2"/>
                  <a:stretch/>
                </p:blipFill>
                <p:spPr>
                  <a:xfrm>
                    <a:off x="457200" y="504720"/>
                    <a:ext cx="8077320" cy="5740560"/>
                  </a:xfrm>
                  <a:prstGeom prst="rect">
                    <a:avLst/>
                  </a:prstGeom>
                  <a:ln w="0">
                    <a:noFill/>
                  </a:ln>
                </p:spPr>
              </p:pic>
            </p:oleObj>
          </a:graphicData>
        </a:graphic>
      </p:graphicFrame>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 name="Object 2"/>
          <p:cNvGraphicFramePr/>
          <p:nvPr/>
        </p:nvGraphicFramePr>
        <p:xfrm>
          <a:off x="0" y="1212840"/>
          <a:ext cx="9144000" cy="4432320"/>
        </p:xfrm>
        <a:graphic>
          <a:graphicData uri="http://schemas.openxmlformats.org/presentationml/2006/ole">
            <p:oleObj r:id="rId1" spid="">
              <p:embed/>
              <p:pic>
                <p:nvPicPr>
                  <p:cNvPr id="58" name="Object 2" descr=""/>
                  <p:cNvPicPr/>
                  <p:nvPr/>
                </p:nvPicPr>
                <p:blipFill>
                  <a:blip r:embed="rId2"/>
                  <a:stretch/>
                </p:blipFill>
                <p:spPr>
                  <a:xfrm>
                    <a:off x="0" y="1212840"/>
                    <a:ext cx="9144000" cy="4432320"/>
                  </a:xfrm>
                  <a:prstGeom prst="rect">
                    <a:avLst/>
                  </a:prstGeom>
                  <a:ln w="0">
                    <a:noFill/>
                  </a:ln>
                </p:spPr>
              </p:pic>
            </p:oleObj>
          </a:graphicData>
        </a:graphic>
      </p:graphicFrame>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609480" y="1397160"/>
          <a:ext cx="8153640" cy="5719680"/>
        </p:xfrm>
        <a:graphic>
          <a:graphicData uri="http://schemas.openxmlformats.org/drawingml/2006/table">
            <a:tbl>
              <a:tblPr/>
              <a:tblGrid>
                <a:gridCol w="3276720"/>
                <a:gridCol w="4876920"/>
              </a:tblGrid>
              <a:tr h="6778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Elemen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Purpo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perator (La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nding site for represso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moter (Lac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inding site for RNA Polymera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pressor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 encoding the lac repressor protein. Binds to DNA at the operator &amp; blocks binding of RNA Pol at the promote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s production of the repressor protei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gridSpan="2">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
          <p:cNvGraphicFramePr/>
          <p:nvPr/>
        </p:nvGraphicFramePr>
        <p:xfrm>
          <a:off x="0" y="0"/>
          <a:ext cx="9144000" cy="6783480"/>
        </p:xfrm>
        <a:graphic>
          <a:graphicData uri="http://schemas.openxmlformats.org/drawingml/2006/table">
            <a:tbl>
              <a:tblPr/>
              <a:tblGrid>
                <a:gridCol w="3048120"/>
                <a:gridCol w="6095880"/>
              </a:tblGrid>
              <a:tr h="69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Enzy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Func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62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a galactosid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enzyme hydrolyzes the bond between the two sugars, glucose and galactose. It is coded for by the gene LacZ.</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510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tose Perme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enzyme spans the cell membrane and brings lactose into the cell from the outside environment. The membrane is otherwise essentially impermeable to lactose. It is coded for by the gene Lac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ogalactosidase transacetyla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nction of this enzyme is not known. It is coded for by the gene LacA</a:t>
                      </a:r>
                      <a:r>
                        <a:rPr b="0" lang="en-GB"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8T07:38:27Z</dcterms:created>
  <dc:creator>SGlinski</dc:creator>
  <dc:description/>
  <dc:language>en-US</dc:language>
  <cp:lastModifiedBy>LEGION2</cp:lastModifiedBy>
  <dcterms:modified xsi:type="dcterms:W3CDTF">2016-01-12T11:20:37Z</dcterms:modified>
  <cp:revision>10</cp:revision>
  <dc:subject/>
  <dc:title>Objectives</dc:title>
</cp:coreProperties>
</file>